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9EF-CBDB-4E5E-9B18-ECAAA97F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6D7-A934-43E8-B588-F624DE38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2DE-502E-40DE-8F52-78560029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F06-3BF0-4459-9255-9441B59A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0FC5-808D-4648-9320-2465A9AC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B29C-B4E0-485A-BF3E-C2B2A987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871E-C6FA-451B-AAC9-445B8771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BA35-6740-4CDB-A6AA-8ADA57CF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485A-B462-4A23-9586-F453BB63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67F6-B6D7-41DD-AB5C-5BA06B8B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F08B-16AB-4526-91C3-0F7D0D87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D4B-A906-4D51-9535-32E1C190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F6AB-E89F-46FE-9A05-77E728FD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1AE9-4FD1-430D-87C3-EA79B8A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F2F9-A476-43B4-B9B1-BCF30D44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0B8F-8081-41AC-B42A-23E99494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BBB2-803E-4BC0-80E1-3022DE58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A9F-48C4-4FCA-90A1-FE70B3D7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D19-F976-4DEC-8A32-2E2E4289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428-B668-46ED-BE8F-F672EC62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45F-7FAD-4973-AD14-2AC4BFAB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848-5736-4D9B-B597-5B169040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E7F-8E27-47DA-9630-DD3F754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BBE-0616-4E31-8DEB-7E4BFE3B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BE1C-000B-447C-9689-8153A3B528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8331-DC7F-47EC-8785-4CECB48AD9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photographer.ru/nonstop/pics/pictures/623/62344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arhya.od.ua/_nw/0/s4083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46080" y="1794960"/>
            <a:ext cx="5927400" cy="195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Деревянное зодчество Древней Рус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386064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рагмент веранд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367344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ин из наиболее распространенных в Заонежье домов-комплексов, получивших название "кошель". Под одной крышей объединены избы, кладовые, сараи, скотные дворы с хлевом и сеновалы. Нарядная часть дома, обращенная к озеру, отводилась под                           жил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Дом Ошевнева (фрагмент веранды), 1876. Деревня Ошевнево"/>
          <p:cNvPicPr/>
          <p:nvPr/>
        </p:nvPicPr>
        <p:blipFill>
          <a:blip r:embed="rId1"/>
          <a:stretch/>
        </p:blipFill>
        <p:spPr>
          <a:xfrm>
            <a:off x="3851280" y="2349360"/>
            <a:ext cx="510840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здальский хра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672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Русское средневековое зодчество - одна из наиболее ярких страниц в истории культуры Руси. Памятники архитектуры наполняют живым, образным содержанием наши представления о развитии культуры, помогают понять многие стороны истории, не нашедшие отражения в письменных источника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2" descr="Картинка 1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1628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изуч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рия зодчества Древней Руси - молодая наука. Еще в XVIII в. памятники древнерусской архитектуры обычно называли готическими. Сам термин свидетельствует, что памятники эти отличали от построек античного и нового времени, но не отделяли от архитектуры других стран, не видели национальной специфики русского зодчества. Средневековые памятники в продолжение всего XVIII в. считали варварскими, памятниками дурного вкуса, недо­стойными изуч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Картинка 15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1341360"/>
            <a:ext cx="383364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Часовня Михаила Архангела, XVII-XVI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414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овня Архангела Михаила из деревни Леликозеро - одна из архитектурных жемчужин Русского Севера. Кроме того, как и многие другие часовни, она была самым красивым строением деревни и дарила жителям немало светлых, праздничных мину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Часовня Михаила Архангела, XVII-XVIII в."/>
          <p:cNvPicPr/>
          <p:nvPr/>
        </p:nvPicPr>
        <p:blipFill>
          <a:blip r:embed="rId1"/>
          <a:stretch/>
        </p:blipFill>
        <p:spPr>
          <a:xfrm>
            <a:off x="4067280" y="2060640"/>
            <a:ext cx="4309920" cy="32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знесенская кубоватая церковь, 1669 г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4065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обережье Белого моря тип кубоватого храма был широко распространен. Кубом называют сложную форму покрытия, напоминающую четырехгранную луковицу. Отличительная особенность архитектурного облика северных кубоватых церквей - их красота, изящество и гармо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Вознесенская кубоватая церковь, 1669 г. Село Кушерека Онежского района"/>
          <p:cNvPicPr/>
          <p:nvPr/>
        </p:nvPicPr>
        <p:blipFill>
          <a:blip r:embed="rId1"/>
          <a:stretch/>
        </p:blipFill>
        <p:spPr>
          <a:xfrm>
            <a:off x="324000" y="1700280"/>
            <a:ext cx="355104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-двор Русиновой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синовы - богатая купеческая семья XVII века. Точное время постройки сохранившихся палат неизвестно; предположительно, они были поставлены в середине XVII столе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Дом-двор Русиновой. Деревня Кондратьевская."/>
          <p:cNvPicPr/>
          <p:nvPr/>
        </p:nvPicPr>
        <p:blipFill>
          <a:blip r:embed="rId1"/>
          <a:stretch/>
        </p:blipFill>
        <p:spPr>
          <a:xfrm>
            <a:off x="4211640" y="2060640"/>
            <a:ext cx="4932360" cy="3611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асовня Трех Святителей, XVII в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42829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самом высоком холме лесистой местности в Кондопожском районе Карелии когда-то располагалась деревня Кавгора. Здесь, окруженная кольцом валунов, в соседстве с елями-великанами высилась часовня Трех святителей: Василия Великого, Иоанна Златоуста, Григория Богосло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Часовня Трех Святителей, XVII в. Деревня Кавгора"/>
          <p:cNvPicPr/>
          <p:nvPr/>
        </p:nvPicPr>
        <p:blipFill>
          <a:blip r:embed="rId1"/>
          <a:stretch/>
        </p:blipFill>
        <p:spPr>
          <a:xfrm>
            <a:off x="684360" y="1700280"/>
            <a:ext cx="36018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mic Sans MS"/>
              </a:rPr>
              <a:t>Дом Сергеевой из деревни Липовицы, конец XIX - начало XX вв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349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ипичный заонежский дом, построенный на рубеже веков, в котором старинные конструктивные приемы сочетаются с новыми тенденциями деревянного зодчества. Прекрасный образец народного строительного искус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Дом Сергеевой из деревни Липовицы, конец XIX - начало XX вв."/>
          <p:cNvPicPr/>
          <p:nvPr/>
        </p:nvPicPr>
        <p:blipFill>
          <a:blip r:embed="rId1"/>
          <a:stretch/>
        </p:blipFill>
        <p:spPr>
          <a:xfrm>
            <a:off x="4464000" y="1844640"/>
            <a:ext cx="468000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рхитектурный ансамбль Спасского Кижского погоста, XV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"Погост Спасский на Кижах на Онеге озере. А на погосте церковь Преображенье спасово, а другая церковь Покров Святии Богородицы" (из писцовой книги московского дьяка Андрея Плещеева о заонежских погостах 1582-1583 гг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Архитектурный ансамбль Спасского Кижского погоста, XVII в."/>
          <p:cNvPicPr/>
          <p:nvPr/>
        </p:nvPicPr>
        <p:blipFill>
          <a:blip r:embed="rId1"/>
          <a:stretch/>
        </p:blipFill>
        <p:spPr>
          <a:xfrm>
            <a:off x="179280" y="2060640"/>
            <a:ext cx="4608720" cy="41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8:47:45Z</dcterms:created>
  <dc:creator>Admin</dc:creator>
  <dc:description/>
  <dc:language>en-US</dc:language>
  <cp:lastModifiedBy>0</cp:lastModifiedBy>
  <dcterms:modified xsi:type="dcterms:W3CDTF">2020-11-27T09:58:35Z</dcterms:modified>
  <cp:revision>10</cp:revision>
  <dc:subject/>
  <dc:title>Золотое сечение в архитектуре.</dc:title>
</cp:coreProperties>
</file>